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5.png" ContentType="image/png"/>
  <Override PartName="/ppt/media/image12.wmf" ContentType="image/x-wmf"/>
  <Override PartName="/ppt/media/image54.jpeg" ContentType="image/jpeg"/>
  <Override PartName="/ppt/media/image28.jpeg" ContentType="image/jpeg"/>
  <Override PartName="/ppt/media/image23.wmf" ContentType="image/x-wmf"/>
  <Override PartName="/ppt/media/image51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61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49.jpeg" ContentType="image/jpeg"/>
  <Override PartName="/ppt/media/image56.wmf" ContentType="image/x-wmf"/>
  <Override PartName="/ppt/media/image22.wmf" ContentType="image/x-wmf"/>
  <Override PartName="/ppt/media/image59.wmf" ContentType="image/x-wmf"/>
  <Override PartName="/ppt/media/image60.png" ContentType="image/png"/>
  <Override PartName="/ppt/media/image21.wmf" ContentType="image/x-wmf"/>
  <Override PartName="/ppt/media/image24.wmf" ContentType="image/x-wmf"/>
  <Override PartName="/ppt/media/image19.wmf" ContentType="image/x-wmf"/>
  <Override PartName="/ppt/media/image17.jpeg" ContentType="image/jpeg"/>
  <Override PartName="/ppt/media/image32.jpeg" ContentType="image/jpeg"/>
  <Override PartName="/ppt/media/image63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8.jpeg" ContentType="image/jpeg"/>
  <Override PartName="/ppt/media/image39.jpeg" ContentType="image/jpeg"/>
  <Override PartName="/ppt/media/image41.wmf" ContentType="image/x-wmf"/>
  <Override PartName="/ppt/media/image62.jpeg" ContentType="image/jpeg"/>
  <Override PartName="/ppt/media/image27.jpeg" ContentType="image/jpeg"/>
  <Override PartName="/ppt/media/image5.wmf" ContentType="image/x-wmf"/>
  <Override PartName="/ppt/media/image10.jpeg" ContentType="image/jpeg"/>
  <Override PartName="/ppt/media/image18.wmf" ContentType="image/x-wmf"/>
  <Override PartName="/ppt/media/image30.jpeg" ContentType="image/jpeg"/>
  <Override PartName="/ppt/media/image31.jpeg" ContentType="image/jpeg"/>
  <Override PartName="/ppt/media/image33.jpeg" ContentType="image/jpeg"/>
  <Override PartName="/ppt/media/image34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wmf" ContentType="image/x-wmf"/>
  <Override PartName="/ppt/media/image48.jpeg" ContentType="image/jpeg"/>
  <Override PartName="/ppt/media/image25.wmf" ContentType="image/x-wmf"/>
  <Override PartName="/ppt/media/image47.jpeg" ContentType="image/jpeg"/>
  <Override PartName="/ppt/media/image52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6B26-3F92-4694-9D2B-8AC83C067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D062-5ED5-457A-8110-403BAE60D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2A40-CEA3-481A-87F0-9FDBCEEDA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69440" y="4175280"/>
            <a:ext cx="64486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E8F4-39A0-4F54-9389-A31CFDE51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962E-FA6A-4267-B463-260817F0B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442F-F456-439A-A357-5B52B2CF5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238A-CAD4-469D-846B-A15AE5321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04D8-C1EB-4A18-A1EC-76B39624A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10D3-CA65-4CED-A13C-E23FB98C9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69EB-4913-4ED0-960F-15079A687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1F5E-B695-4757-8DA3-23F42AF16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690D-4817-4450-BFCE-2BCEABD8E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BCDE-6089-4C13-AE20-312B812D4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35F9-A250-46A1-A87F-26D7D43A6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DBBA-AE9D-4311-BD40-EB32B0E6E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A58C-F7BA-47EC-9A20-C187ABA7A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4309-9F30-43BA-89E0-2659F521F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0B1D-FC85-4327-B7D8-6988E0431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F0F9-8BD7-4997-A974-F7234657F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EE57-2C64-435D-B6D3-78B1B261D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EB73-4966-4157-8EEB-7DA51E24D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32EC-FF3B-4FFE-9E6D-F050D0FFA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05D1-307D-44F7-B869-6DA313C7B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A4C6-DE72-4207-BE7C-8998CD144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4329-FAFD-480C-91FE-44B5DADF8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5DC6-B233-45AB-8295-2423DF679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AE52-FDA9-41E5-9016-F7E50BAB7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E30B-DCC2-4F38-B3C0-1821129C0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AD6F-B0B1-4F37-815A-BF3D3427A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D2AC-B193-492D-92A4-0701B57F2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F7879-3DAD-42D0-BEE7-AEC05B93F6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30B2E-1460-425B-B765-1CD65E874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502CD-E5FE-4946-8C53-99425A189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C6F4E-5ADD-4E39-B91B-B0B07156B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DEBAC-D63D-4A01-9C9E-89F05D96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DCF05-C90E-4524-BAF2-5E51C66F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28C34-82EA-45EB-9EED-1CB69C12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DE936-128D-480E-878F-A60A1A9E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91448-8307-4741-A96F-4A49FE6E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36846-0730-4C8D-A440-C4835D22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4C636-85BE-4377-97CF-BF6741A8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4147E-54D2-4377-84A1-F7FA96873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18358-2DD4-47A9-BE50-7C3E44EA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9288E-D437-4F3C-8ABA-62D5E49A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10DF1-7D80-4348-A113-80EFC789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259A9-0093-4E63-9AD8-C30B27A5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6F572-F6F7-4ED7-B95F-DC1C2179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FB3D4-210F-482F-B1AC-A0545ECE07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B00EE-3E27-4E8D-AB69-7E75AC4CF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31921-E765-496C-92D6-19DE93D66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15B54-0484-41E2-9B8D-3878FCC56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04E10-2779-4BE1-AD52-817D26BB0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DAB02-A87E-4237-800A-C35EDE7E03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1A392-09E7-474F-BDC1-68C44C8B31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AD82-1D20-4F57-8B86-09BF069E9E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4E4E-B1B1-44BD-B2EF-F24F5E1CD0DD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4AE2-8A20-4388-B51A-D8805AEC15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0.jpeg"/><Relationship Id="rId3" Type="http://schemas.openxmlformats.org/officeDocument/2006/relationships/image" Target="../media/image10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5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7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17.jpeg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2895480" y="1752480"/>
            <a:ext cx="68580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Gestion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ce réservé du pied de page 4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5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81A3-BA81-4F97-90E1-CE3E3C0DAC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5_collection"/>
          <p:cNvPicPr/>
          <p:nvPr/>
        </p:nvPicPr>
        <p:blipFill>
          <a:blip r:embed="rId1"/>
          <a:stretch/>
        </p:blipFill>
        <p:spPr>
          <a:xfrm>
            <a:off x="2286000" y="2666880"/>
            <a:ext cx="1752480" cy="1524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j0409709"/>
          <p:cNvPicPr/>
          <p:nvPr/>
        </p:nvPicPr>
        <p:blipFill>
          <a:blip r:embed="rId2"/>
          <a:srcRect l="23062" t="0" r="0" b="0"/>
          <a:stretch/>
        </p:blipFill>
        <p:spPr>
          <a:xfrm>
            <a:off x="685800" y="2666880"/>
            <a:ext cx="1752480" cy="151776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6400800" y="434340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Définit un bon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système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d’étique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57200" y="4724280"/>
            <a:ext cx="40384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Vérifie tous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 les échantillons -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609480" y="1295280"/>
            <a:ext cx="327672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Fournit une information</a:t>
            </a:r>
            <a:br>
              <a:rPr sz="1800"/>
            </a:b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 sur le prélèvement</a:t>
            </a:r>
            <a:br>
              <a:rPr sz="1600"/>
            </a:br>
            <a:r>
              <a:rPr b="1" lang="fr-FR" sz="2000" spc="-1" strike="noStrike">
                <a:solidFill>
                  <a:srgbClr val="ffd911"/>
                </a:solidFill>
                <a:latin typeface="Arial"/>
              </a:rPr>
              <a:t>Quoi- Quand-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3"/>
          <a:srcRect l="33286" t="0" r="12802" b="0"/>
          <a:stretch/>
        </p:blipFill>
        <p:spPr>
          <a:xfrm>
            <a:off x="4572000" y="4343400"/>
            <a:ext cx="1657440" cy="1905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6215_lores"/>
          <p:cNvPicPr/>
          <p:nvPr/>
        </p:nvPicPr>
        <p:blipFill>
          <a:blip r:embed="rId4"/>
          <a:srcRect l="54291" t="67985" r="18571" b="6579"/>
          <a:stretch/>
        </p:blipFill>
        <p:spPr>
          <a:xfrm>
            <a:off x="4495680" y="2590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4"/>
          <p:cNvSpPr/>
          <p:nvPr/>
        </p:nvSpPr>
        <p:spPr>
          <a:xfrm>
            <a:off x="609480" y="5335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esponsabilité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5"/>
          <p:cNvSpPr/>
          <p:nvPr/>
        </p:nvSpPr>
        <p:spPr>
          <a:xfrm rot="10800000">
            <a:off x="3428640" y="5714640"/>
            <a:ext cx="3048120" cy="609480"/>
          </a:xfrm>
          <a:prstGeom prst="rightArrow">
            <a:avLst>
              <a:gd name="adj1" fmla="val 50000"/>
              <a:gd name="adj2" fmla="val 125030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4876920" y="1219320"/>
            <a:ext cx="3962160" cy="13716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Fournit des récipient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et consommable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appropr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3733920" y="2286000"/>
            <a:ext cx="1981080" cy="609480"/>
          </a:xfrm>
          <a:prstGeom prst="rightArrow">
            <a:avLst>
              <a:gd name="adj1" fmla="val 50000"/>
              <a:gd name="adj2" fmla="val 81261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9" descr="5_containers"/>
          <p:cNvPicPr/>
          <p:nvPr/>
        </p:nvPicPr>
        <p:blipFill>
          <a:blip r:embed="rId5"/>
          <a:stretch/>
        </p:blipFill>
        <p:spPr>
          <a:xfrm>
            <a:off x="6248520" y="2590920"/>
            <a:ext cx="928440" cy="1523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5_swab_packaging"/>
          <p:cNvPicPr/>
          <p:nvPr/>
        </p:nvPicPr>
        <p:blipFill>
          <a:blip r:embed="rId6"/>
          <a:stretch/>
        </p:blipFill>
        <p:spPr>
          <a:xfrm>
            <a:off x="7162920" y="2590920"/>
            <a:ext cx="1218960" cy="15238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6"/>
          <p:cNvSpPr/>
          <p:nvPr/>
        </p:nvSpPr>
        <p:spPr>
          <a:xfrm rot="5400000">
            <a:off x="7505280" y="331488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9219-C26C-4E31-8357-1A49E280AE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5_form"/>
          <p:cNvPicPr/>
          <p:nvPr/>
        </p:nvPicPr>
        <p:blipFill>
          <a:blip r:embed="rId1"/>
          <a:srcRect l="0" t="0" r="1067" b="0"/>
          <a:stretch/>
        </p:blipFill>
        <p:spPr>
          <a:xfrm>
            <a:off x="4114800" y="838080"/>
            <a:ext cx="4718160" cy="5639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s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eure et date du recueil de l’échantill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urce de l’échantillon, si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nnées cliniques, quand indiqu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du personnel de soin demandant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1114-5FA4-48AD-A4A3-718246BB6C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9612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ZoneTexte 4"/>
          <p:cNvSpPr/>
          <p:nvPr/>
        </p:nvSpPr>
        <p:spPr>
          <a:xfrm>
            <a:off x="2286000" y="457200"/>
            <a:ext cx="4952880" cy="52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Formulaire de collection de données du ter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5"/>
          <p:cNvSpPr/>
          <p:nvPr/>
        </p:nvSpPr>
        <p:spPr>
          <a:xfrm>
            <a:off x="685800" y="762120"/>
            <a:ext cx="3581280" cy="176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Information générale du pat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om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Adress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Pay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Rég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Ville/villag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Date du début de la pathologie </a:t>
            </a: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(jj/mm/aa)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oneTexte 6"/>
          <p:cNvSpPr/>
          <p:nvPr/>
        </p:nvSpPr>
        <p:spPr>
          <a:xfrm>
            <a:off x="4800600" y="1143000"/>
            <a:ext cx="2590920" cy="109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N° d’enregistremen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Date de naissance (jj/mm/aa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Sexe: M ( ) F 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ationalité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Emploi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Texte 7"/>
          <p:cNvSpPr/>
          <p:nvPr/>
        </p:nvSpPr>
        <p:spPr>
          <a:xfrm>
            <a:off x="3657600" y="2209680"/>
            <a:ext cx="190512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cli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8"/>
          <p:cNvSpPr/>
          <p:nvPr/>
        </p:nvSpPr>
        <p:spPr>
          <a:xfrm>
            <a:off x="3276720" y="3792600"/>
            <a:ext cx="25146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post-mor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du décès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9"/>
          <p:cNvSpPr/>
          <p:nvPr/>
        </p:nvSpPr>
        <p:spPr>
          <a:xfrm>
            <a:off x="609480" y="5540400"/>
            <a:ext cx="358164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e la personne remplissant le formulai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ffiliation institutionnel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ordonnées pour cont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F7D8-258D-4A08-A575-6FBE7726D0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xigences pour le prélèv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par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 requ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e récipien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a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ment spécif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cautions de sécur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8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5257800" y="3921120"/>
            <a:ext cx="3886200" cy="1897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410080" y="1295280"/>
            <a:ext cx="3505320" cy="153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50" name="Picture 12" descr="Test_Bracket_patient-safety"/>
          <p:cNvPicPr/>
          <p:nvPr/>
        </p:nvPicPr>
        <p:blipFill>
          <a:blip r:embed="rId4"/>
          <a:stretch/>
        </p:blipFill>
        <p:spPr>
          <a:xfrm>
            <a:off x="6095880" y="22096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C6E7-F75E-4A8C-BC5D-9FB101F120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3886200" cy="3200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</a:rPr>
              <a:t>Donnez des informations sur le prélèvement d’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762120" y="457200"/>
            <a:ext cx="761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5_finger_prick_job_aid"/>
          <p:cNvPicPr/>
          <p:nvPr/>
        </p:nvPicPr>
        <p:blipFill>
          <a:blip r:embed="rId1"/>
          <a:stretch/>
        </p:blipFill>
        <p:spPr>
          <a:xfrm>
            <a:off x="4419720" y="533520"/>
            <a:ext cx="4101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7CD4-4C48-4DF6-9968-B86740339C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87040" y="457200"/>
            <a:ext cx="74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iquet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haque échantillon doit être étiqueté avec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numéro unique d’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e demand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eure date d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itiales de la personn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qui prélè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315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380880" y="5486400"/>
            <a:ext cx="7391520" cy="914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Utilisez si possible des codes généré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par informat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765840" y="2835000"/>
            <a:ext cx="8701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DC41-AA3A-4BDF-B113-0DF159E01F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6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uvai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group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>
              <a:off x="1523880" y="303048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Test cros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tch mal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étiquet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6095880" y="4146480"/>
              <a:ext cx="1142640" cy="960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vertion de l’ordre d’admiss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irmier peu familier de la tâ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1"/>
            <p:cNvSpPr/>
            <p:nvPr/>
          </p:nvSpPr>
          <p:spPr>
            <a:xfrm>
              <a:off x="5968800" y="47772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irmier d’un service différ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Instructions verbales fourn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3"/>
            <p:cNvSpPr/>
            <p:nvPr/>
          </p:nvSpPr>
          <p:spPr>
            <a:xfrm>
              <a:off x="5968800" y="303048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nuel de labo peu facile à trouv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4"/>
            <p:cNvSpPr/>
            <p:nvPr/>
          </p:nvSpPr>
          <p:spPr>
            <a:xfrm>
              <a:off x="5968800" y="159552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nel régulier malade ou abs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5"/>
            <p:cNvSpPr/>
            <p:nvPr/>
          </p:nvSpPr>
          <p:spPr>
            <a:xfrm>
              <a:off x="7365600" y="4146480"/>
              <a:ext cx="12445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élai dans le service d’ad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éorganisation des services infirmi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7"/>
            <p:cNvSpPr/>
            <p:nvPr/>
          </p:nvSpPr>
          <p:spPr>
            <a:xfrm>
              <a:off x="6095880" y="5422680"/>
              <a:ext cx="114264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Arial"/>
                </a:rPr>
                <a:t>Échantillons apportés aux infirmi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Deux patients prélevé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127008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5842080" y="4784760"/>
              <a:ext cx="253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71118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6"/>
            <p:cNvSpPr/>
            <p:nvPr/>
          </p:nvSpPr>
          <p:spPr>
            <a:xfrm>
              <a:off x="5079960" y="5900760"/>
              <a:ext cx="1015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éa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fusionell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j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9"/>
          <p:cNvSpPr/>
          <p:nvPr/>
        </p:nvSpPr>
        <p:spPr>
          <a:xfrm>
            <a:off x="4648320" y="5334120"/>
            <a:ext cx="0" cy="9144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1"/>
          <p:cNvSpPr/>
          <p:nvPr/>
        </p:nvSpPr>
        <p:spPr>
          <a:xfrm>
            <a:off x="4724280" y="6400800"/>
            <a:ext cx="266724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5"/>
          <p:cNvSpPr/>
          <p:nvPr/>
        </p:nvSpPr>
        <p:spPr>
          <a:xfrm>
            <a:off x="2743200" y="2971800"/>
            <a:ext cx="1600200" cy="146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chantillonsnon étiquetés au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ied du 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6"/>
          <p:cNvSpPr/>
          <p:nvPr/>
        </p:nvSpPr>
        <p:spPr>
          <a:xfrm>
            <a:off x="7467480" y="5410080"/>
            <a:ext cx="1524240" cy="85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903"/>
                </a:solidFill>
                <a:latin typeface="Verdana"/>
              </a:rPr>
              <a:t>Mélange des échantill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 d’erreur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tiquetage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chantill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B68F-229F-43C6-B621-8749AAD8CB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sultat d’un mauvais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tards dans le rendu d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itions d’analyses non nécessai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minution de la satisfaction du cl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gmentation des coû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uvais diagnostic/trai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lessu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or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249F-AFD2-4CA2-A5D2-6A57859AE4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s pré analyt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Vér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omplétude de la fiche de demande d’analy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l’échantillon est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informations de l’étiquet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mplir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ppliquer les critères d’acceptation de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8" descr="5_label_computer"/>
          <p:cNvPicPr/>
          <p:nvPr/>
        </p:nvPicPr>
        <p:blipFill>
          <a:blip r:embed="rId1"/>
          <a:stretch/>
        </p:blipFill>
        <p:spPr>
          <a:xfrm>
            <a:off x="72388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j0434713"/>
          <p:cNvPicPr/>
          <p:nvPr/>
        </p:nvPicPr>
        <p:blipFill>
          <a:blip r:embed="rId2"/>
          <a:stretch/>
        </p:blipFill>
        <p:spPr>
          <a:xfrm>
            <a:off x="6781680" y="39625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8607-7BC2-4AB7-A107-BEBDCB41FA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4952880" y="48006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renversée, une cause de re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57200" y="4724280"/>
            <a:ext cx="4495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hantillons étiqu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ches de demande complè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27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8688-4EF6-4D77-BE9D-2428E4F85E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 l’issue de cette activité les participants seront en mesure 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ommer les principales erreurs de recueil des échantillons pouvant conduire à des résultats erroné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ister les informations que devrait contenir le manuel à l’attention de ceux qui recueillent les échantillons en dehors du laboratoi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ournir les raisons de rejeter les échantillons insatisfais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écrire un système de traitement de l’échantillon incluant son recueil, son transport, son stockage et son élim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xpliquer l’importance de la conservation correcte des échantillons, et de s’assurer que toutes les règles et les exigences liées à son transport sont respecté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23A3-6867-4D21-8E48-52C82687BE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face_phone_results"/>
          <p:cNvPicPr/>
          <p:nvPr/>
        </p:nvPicPr>
        <p:blipFill>
          <a:blip r:embed="rId1"/>
          <a:stretch/>
        </p:blipFill>
        <p:spPr>
          <a:xfrm>
            <a:off x="6781680" y="117324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à faire lors du rejet d’un échantill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705720" y="2438280"/>
            <a:ext cx="1800000" cy="3810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FIL19"/>
          <p:cNvPicPr/>
          <p:nvPr/>
        </p:nvPicPr>
        <p:blipFill>
          <a:blip r:embed="rId3"/>
          <a:stretch/>
        </p:blipFill>
        <p:spPr>
          <a:xfrm>
            <a:off x="6858000" y="5029200"/>
            <a:ext cx="2133720" cy="13190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former les personnes autor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mander un nouvel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 rej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er finalement l’échantillon rejeté, en se basant sur des critères pré-étab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façon extraordinaire, analyser les échantillons rejet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ZoneTexte 8"/>
          <p:cNvSpPr/>
          <p:nvPr/>
        </p:nvSpPr>
        <p:spPr>
          <a:xfrm>
            <a:off x="7848720" y="3429000"/>
            <a:ext cx="1143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9AB2-EE87-42DB-97E6-F11B1A6C3A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9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19920" y="1523880"/>
            <a:ext cx="2862000" cy="29149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380880" y="1379520"/>
            <a:ext cx="693432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registre devrait inclu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te heur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resse, si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6FF0-1DAA-4E35-8221-146063A292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anuel de suivi manuel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irme la réception des échantillons, inclure date et he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iqueter correctement, garder les feuilles de demande jusqu’à l’attribution du numéro du lab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ivre les aliquots depuis l’échantillon prim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_req_form"/>
          <p:cNvPicPr/>
          <p:nvPr/>
        </p:nvPicPr>
        <p:blipFill>
          <a:blip r:embed="rId2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5_date_stamp"/>
          <p:cNvPicPr/>
          <p:nvPr/>
        </p:nvPicPr>
        <p:blipFill>
          <a:blip r:embed="rId3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E552-E3FE-49A6-A0DD-2B1C8726CD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uivi électroniqu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champs de la base de donnée incluent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d’iden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ormation sur l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du prescript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calisation du patient (service, unité, extern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ésultats des tests diagno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oduction du compte-ren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A683-934F-4D4E-BB06-E4B9E644A4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1" descr="5730_lores"/>
          <p:cNvPicPr/>
          <p:nvPr/>
        </p:nvPicPr>
        <p:blipFill>
          <a:blip r:embed="rId1"/>
          <a:stretch/>
        </p:blipFill>
        <p:spPr>
          <a:xfrm>
            <a:off x="2057400" y="2286000"/>
            <a:ext cx="4229280" cy="3160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nipuler les échantillons comme si potentiellement infect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28600" y="609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ipulation des échantill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bio_hazrd_red_blk_cdc"/>
          <p:cNvPicPr/>
          <p:nvPr/>
        </p:nvPicPr>
        <p:blipFill>
          <a:blip r:embed="rId2"/>
          <a:stretch/>
        </p:blipFill>
        <p:spPr>
          <a:xfrm>
            <a:off x="5105520" y="3581280"/>
            <a:ext cx="2895480" cy="2257560"/>
          </a:xfrm>
          <a:prstGeom prst="rect">
            <a:avLst/>
          </a:prstGeom>
          <a:ln w="0">
            <a:noFill/>
          </a:ln>
        </p:spPr>
      </p:pic>
      <p:sp>
        <p:nvSpPr>
          <p:cNvPr id="359" name="WordArt 15"/>
          <p:cNvSpPr txBox="1"/>
          <p:nvPr/>
        </p:nvSpPr>
        <p:spPr>
          <a:xfrm>
            <a:off x="1371600" y="22096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écautions universelle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EF26-3856-4AD1-95D6-B27E9817E2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7" descr="storage_fridge"/>
          <p:cNvPicPr/>
          <p:nvPr/>
        </p:nvPicPr>
        <p:blipFill>
          <a:blip r:embed="rId1"/>
          <a:srcRect l="22116" t="14895" r="33173" b="14895"/>
          <a:stretch/>
        </p:blipFill>
        <p:spPr>
          <a:xfrm>
            <a:off x="5791320" y="4286160"/>
            <a:ext cx="2130480" cy="24843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tockage des échantillons : lignes de condui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échantillons à con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temps de conser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lie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bonnes condi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t une méthode de rangement des échantill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DA5B-8480-4136-B48B-22769071FC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579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9680" indent="-3196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les lignes de conduite pou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ivre les échantillons stockés, incluant la congélation/décongé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un système organisé et acce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 de suivi des échantill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procédures de suiv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4" descr="freezer2"/>
          <p:cNvPicPr/>
          <p:nvPr/>
        </p:nvPicPr>
        <p:blipFill>
          <a:blip r:embed="rId1"/>
          <a:stretch/>
        </p:blipFill>
        <p:spPr>
          <a:xfrm>
            <a:off x="5873760" y="1981080"/>
            <a:ext cx="3116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CF83-E73B-4E7F-985E-DFA34978B0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férer un 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référ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ate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nom de la personne à qui on a référé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et 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élai de rendu du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remise des résultats (du laboratoire de référence, au prescrip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oblèmes liés à la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4_log_book"/>
          <p:cNvPicPr/>
          <p:nvPr/>
        </p:nvPicPr>
        <p:blipFill>
          <a:blip r:embed="rId1"/>
          <a:stretch/>
        </p:blipFill>
        <p:spPr>
          <a:xfrm>
            <a:off x="5943600" y="380880"/>
            <a:ext cx="28954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4AA4-A2A8-4527-AE91-81C5A6A48A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limination des déche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lignes de conduites pour l’élimination des déch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accord avec les régulations locales et nation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de désinf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biohazard_bag"/>
          <p:cNvPicPr/>
          <p:nvPr/>
        </p:nvPicPr>
        <p:blipFill>
          <a:blip r:embed="rId1"/>
          <a:stretch/>
        </p:blipFill>
        <p:spPr>
          <a:xfrm>
            <a:off x="3657600" y="42670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09480" y="4191120"/>
            <a:ext cx="2667240" cy="2143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MCj03266380000[1]"/>
          <p:cNvPicPr/>
          <p:nvPr/>
        </p:nvPicPr>
        <p:blipFill>
          <a:blip r:embed="rId3"/>
          <a:stretch/>
        </p:blipFill>
        <p:spPr>
          <a:xfrm>
            <a:off x="6019920" y="4267080"/>
            <a:ext cx="2504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0F6B-1371-427A-8627-1C63790C26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ansport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’intégrité des échantillon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iners spéciaux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ations de duré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specter les régul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sécur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019920" y="3886200"/>
            <a:ext cx="2354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0FBC-59BE-4EE6-948C-63A6564062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09320" y="4495680"/>
            <a:ext cx="6782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’allez vous vérifier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e ferez vou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9" descr="MCj04377970000[1]"/>
          <p:cNvPicPr/>
          <p:nvPr/>
        </p:nvPicPr>
        <p:blipFill>
          <a:blip r:embed="rId1"/>
          <a:stretch/>
        </p:blipFill>
        <p:spPr>
          <a:xfrm>
            <a:off x="609480" y="4267080"/>
            <a:ext cx="1981440" cy="1782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380880" y="457200"/>
            <a:ext cx="8610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cénario: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Votre laboratoire a réalisé des PCR sur des échantillons de la clinique A pour détecter le virus grippal. La plupart des tests sont négatifs. Le personnel de la clinique A vous dit que leurs patients présentent les signes cliniques de la gripp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6AE4-6F51-49BC-BA39-316950D79E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380880" y="533520"/>
            <a:ext cx="8153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ulation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D’ou proviennent-ell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i les développ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-99720" y="2971800"/>
            <a:ext cx="7986240" cy="2439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ICAO/IATA (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Agences pour rail, route et 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Services pos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Courriers pri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FDDD-9C42-4E1A-B874-3ACF5B4812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0880" y="533520"/>
            <a:ext cx="8153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gulations d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457200" y="1219320"/>
            <a:ext cx="8381880" cy="4876200"/>
            <a:chOff x="457200" y="1219320"/>
            <a:chExt cx="8381880" cy="4876200"/>
          </a:xfrm>
        </p:grpSpPr>
        <p:sp>
          <p:nvSpPr>
            <p:cNvPr id="395" name="AutoShape 4"/>
            <p:cNvSpPr/>
            <p:nvPr/>
          </p:nvSpPr>
          <p:spPr>
            <a:xfrm>
              <a:off x="457200" y="1219320"/>
              <a:ext cx="8381880" cy="48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6" name="_s178188"/>
            <p:cNvCxnSpPr>
              <a:stCxn id="397" idx="1"/>
              <a:endCxn id="398" idx="2"/>
            </p:cNvCxnSpPr>
            <p:nvPr/>
          </p:nvCxnSpPr>
          <p:spPr>
            <a:xfrm rot="10800000">
              <a:off x="2971080" y="2106000"/>
              <a:ext cx="838800" cy="3546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9" name="_s178187"/>
            <p:cNvCxnSpPr>
              <a:stCxn id="400" idx="1"/>
              <a:endCxn id="398" idx="2"/>
            </p:cNvCxnSpPr>
            <p:nvPr/>
          </p:nvCxnSpPr>
          <p:spPr>
            <a:xfrm rot="10800000">
              <a:off x="2971080" y="2106000"/>
              <a:ext cx="838800" cy="2215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01" name="_s178186"/>
            <p:cNvCxnSpPr>
              <a:stCxn id="402" idx="1"/>
              <a:endCxn id="398" idx="2"/>
            </p:cNvCxnSpPr>
            <p:nvPr/>
          </p:nvCxnSpPr>
          <p:spPr>
            <a:xfrm rot="10800000">
              <a:off x="2971080" y="2106000"/>
              <a:ext cx="838800" cy="8863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398" name="_s178182"/>
            <p:cNvSpPr/>
            <p:nvPr/>
          </p:nvSpPr>
          <p:spPr>
            <a:xfrm>
              <a:off x="457200" y="12193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Respect obligatoi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178183"/>
            <p:cNvSpPr/>
            <p:nvPr/>
          </p:nvSpPr>
          <p:spPr>
            <a:xfrm>
              <a:off x="3809880" y="254988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Viol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178184"/>
            <p:cNvSpPr/>
            <p:nvPr/>
          </p:nvSpPr>
          <p:spPr>
            <a:xfrm>
              <a:off x="3809880" y="387900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But : réduire les risqu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’accident/de renver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178185"/>
            <p:cNvSpPr/>
            <p:nvPr/>
          </p:nvSpPr>
          <p:spPr>
            <a:xfrm>
              <a:off x="3809880" y="52081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Sécurité du courrier, du labo,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es employés, passagers, 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Picture 17" descr="bio_hazrd_red_cdc"/>
            <p:cNvPicPr/>
            <p:nvPr/>
          </p:nvPicPr>
          <p:blipFill>
            <a:blip r:embed="rId1"/>
            <a:stretch/>
          </p:blipFill>
          <p:spPr>
            <a:xfrm>
              <a:off x="3048120" y="4647240"/>
              <a:ext cx="76176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AutoShape 13"/>
          <p:cNvSpPr/>
          <p:nvPr/>
        </p:nvSpPr>
        <p:spPr>
          <a:xfrm>
            <a:off x="5715000" y="2666880"/>
            <a:ext cx="838080" cy="6858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4" descr="j0424198"/>
          <p:cNvPicPr/>
          <p:nvPr/>
        </p:nvPicPr>
        <p:blipFill>
          <a:blip r:embed="rId2"/>
          <a:stretch/>
        </p:blipFill>
        <p:spPr>
          <a:xfrm>
            <a:off x="6705720" y="2133720"/>
            <a:ext cx="2209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515E-C3FB-44F7-9648-01E78EB515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28600" y="4572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-334800" y="1371600"/>
            <a:ext cx="93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uvelle Classification en 2005, basée sur deux catégori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228600" y="1981080"/>
            <a:ext cx="87631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atégorie A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ubstance infectieuses capables de cause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 handicap perma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s maladies menaçant la vie des humains et des anim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mballag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 triple emballage de très bonne qualité, et la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ocumentation complète de transport de marchandises danger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rmation du personnel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5E23-A2FA-4944-87CA-846C23F10D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380880" y="457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533520" y="1752480"/>
            <a:ext cx="830556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Catégorie B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bstances infectieuses non inclues dans la catégori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iple emballage moins dr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 de documentation liée aux marchandises dangereuses n’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8133-9DBE-4D69-99E6-FB609E3ADC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0" y="6019920"/>
            <a:ext cx="91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fr-FR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 ed (rev) of UN Model Regulations for the Transport of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762120" y="609480"/>
            <a:ext cx="52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457200" y="1447920"/>
            <a:ext cx="84582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ne contenant pas de substances infectie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organismes non pathogè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pathogènes neutralisés ou inactiv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hantillons environnementaux ne posant pas de risques infec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ang ou composant sanguins prélevés pour trans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ssus ou organes prélevés pour transpla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ests de dépistage sur sang ou selles séch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chets médicaux décontami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B4CB-6337-4739-A1F5-944731F75A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609480" y="0"/>
            <a:ext cx="6783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iple emballage (UN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2455920" y="2921040"/>
            <a:ext cx="739800" cy="81288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55680" y="2030400"/>
            <a:ext cx="26827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9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pénétration 7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quag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cumentation DG compl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440160" y="2030400"/>
            <a:ext cx="273204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1,2 mè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tiquette 33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UNMARK98"/>
          <p:cNvPicPr/>
          <p:nvPr/>
        </p:nvPicPr>
        <p:blipFill>
          <a:blip r:embed="rId1"/>
          <a:stretch/>
        </p:blipFill>
        <p:spPr>
          <a:xfrm>
            <a:off x="1600200" y="5867280"/>
            <a:ext cx="1481040" cy="324000"/>
          </a:xfrm>
          <a:prstGeom prst="rect">
            <a:avLst/>
          </a:prstGeom>
          <a:ln w="0">
            <a:noFill/>
          </a:ln>
        </p:spPr>
      </p:pic>
      <p:sp>
        <p:nvSpPr>
          <p:cNvPr id="429" name="Line 7"/>
          <p:cNvSpPr/>
          <p:nvPr/>
        </p:nvSpPr>
        <p:spPr>
          <a:xfrm>
            <a:off x="3354480" y="136836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415800" y="208116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-23760" y="1454040"/>
            <a:ext cx="33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497400" y="1459080"/>
            <a:ext cx="24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5105520" y="5334120"/>
            <a:ext cx="741240" cy="8125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5083920" y="470052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 337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3" descr="biohazard symbol II"/>
          <p:cNvPicPr/>
          <p:nvPr/>
        </p:nvPicPr>
        <p:blipFill>
          <a:blip r:embed="rId2"/>
          <a:stretch/>
        </p:blipFill>
        <p:spPr>
          <a:xfrm>
            <a:off x="2738520" y="2948040"/>
            <a:ext cx="183960" cy="19836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4"/>
          <p:cNvSpPr/>
          <p:nvPr/>
        </p:nvSpPr>
        <p:spPr>
          <a:xfrm>
            <a:off x="2719080" y="3352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6246720" y="136692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6401520" y="140328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pécimens humain ou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animaux exoné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6370560" y="2031840"/>
            <a:ext cx="261792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6600-B68C-41D7-8729-163A5BD061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tégorie 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43" name="Picture 3" descr="5_packaging_category_a_infectious_substances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523880" y="762120"/>
            <a:ext cx="7086600" cy="5629320"/>
          </a:xfrm>
          <a:prstGeom prst="rect">
            <a:avLst/>
          </a:prstGeom>
          <a:ln w="0">
            <a:noFill/>
          </a:ln>
        </p:spPr>
      </p:pic>
      <p:sp>
        <p:nvSpPr>
          <p:cNvPr id="444" name="ZoneTexte 5"/>
          <p:cNvSpPr/>
          <p:nvPr/>
        </p:nvSpPr>
        <p:spPr>
          <a:xfrm>
            <a:off x="4800600" y="97308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oneTexte 6"/>
          <p:cNvSpPr/>
          <p:nvPr/>
        </p:nvSpPr>
        <p:spPr>
          <a:xfrm>
            <a:off x="4876920" y="1295280"/>
            <a:ext cx="17524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absorbant (pour les liquid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oneTexte 7"/>
          <p:cNvSpPr/>
          <p:nvPr/>
        </p:nvSpPr>
        <p:spPr>
          <a:xfrm>
            <a:off x="4800600" y="2573280"/>
            <a:ext cx="106668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uver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ZoneTexte 8"/>
          <p:cNvSpPr/>
          <p:nvPr/>
        </p:nvSpPr>
        <p:spPr>
          <a:xfrm>
            <a:off x="4952880" y="3809880"/>
            <a:ext cx="106704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e d’orientation du paqu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ZoneTexte 9"/>
          <p:cNvSpPr/>
          <p:nvPr/>
        </p:nvSpPr>
        <p:spPr>
          <a:xfrm>
            <a:off x="4800600" y="44956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oneTexte 10"/>
          <p:cNvSpPr/>
          <p:nvPr/>
        </p:nvSpPr>
        <p:spPr>
          <a:xfrm>
            <a:off x="4343400" y="5334120"/>
            <a:ext cx="106668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Identification de l’expéditeur et recev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oneTexte 11"/>
          <p:cNvSpPr/>
          <p:nvPr/>
        </p:nvSpPr>
        <p:spPr>
          <a:xfrm>
            <a:off x="1981080" y="5105520"/>
            <a:ext cx="10670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u transporteur et n°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oneTexte 12"/>
          <p:cNvSpPr/>
          <p:nvPr/>
        </p:nvSpPr>
        <p:spPr>
          <a:xfrm>
            <a:off x="1905120" y="4398840"/>
            <a:ext cx="106668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de 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oneTexte 13"/>
          <p:cNvSpPr/>
          <p:nvPr/>
        </p:nvSpPr>
        <p:spPr>
          <a:xfrm>
            <a:off x="1447920" y="396252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rigide exter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14"/>
          <p:cNvSpPr/>
          <p:nvPr/>
        </p:nvSpPr>
        <p:spPr>
          <a:xfrm>
            <a:off x="1371600" y="2725560"/>
            <a:ext cx="19810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secondaire étan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15"/>
          <p:cNvSpPr/>
          <p:nvPr/>
        </p:nvSpPr>
        <p:spPr>
          <a:xfrm>
            <a:off x="380880" y="1352520"/>
            <a:ext cx="304812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éceptacle primaire étanche Verre, métal ou plas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ZoneTexte 16"/>
          <p:cNvSpPr/>
          <p:nvPr/>
        </p:nvSpPr>
        <p:spPr>
          <a:xfrm>
            <a:off x="6095880" y="2514600"/>
            <a:ext cx="152424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Section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agittale</a:t>
            </a: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 du paqu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oneTexte 17"/>
          <p:cNvSpPr/>
          <p:nvPr/>
        </p:nvSpPr>
        <p:spPr>
          <a:xfrm>
            <a:off x="7467480" y="434340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oneTexte 18"/>
          <p:cNvSpPr/>
          <p:nvPr/>
        </p:nvSpPr>
        <p:spPr>
          <a:xfrm>
            <a:off x="7467480" y="5238720"/>
            <a:ext cx="8384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bsorb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ZoneTexte 19"/>
          <p:cNvSpPr/>
          <p:nvPr/>
        </p:nvSpPr>
        <p:spPr>
          <a:xfrm>
            <a:off x="7620120" y="4724280"/>
            <a:ext cx="99036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ID spé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ZoneTexte 20"/>
          <p:cNvSpPr/>
          <p:nvPr/>
        </p:nvSpPr>
        <p:spPr>
          <a:xfrm>
            <a:off x="7543800" y="38098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ermeture hermé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1755-A308-4DE0-A40D-E603E41544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u transport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ecter toutes les ré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rmer le personnel pour toutes les procé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’échantillon est protégé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urée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mballage et con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2BEA-E66F-40EC-9918-71F9D17CE0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urnir un manuel de prélèvement du laboratoire incluant l’information sur les prélèv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séder un système de suivi des échantillons dans le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et mettre en place une ligne de conduite pour le stockage et l’élimin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l’intégrité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du respect de toutes les régulations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0000"/>
                </a:solidFill>
                <a:latin typeface="Verdana"/>
              </a:rPr>
              <a:t>Toujours suivre les précautions universel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050A-4ED8-4182-886F-1103AC917F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laboratoire doit obtenir de bons échantillons afin d’assurer justesse et fiabilité des tests et la confiance dans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de la gestion des échantillons affecte directement la santé des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7836-216A-467C-B1A8-5A7E1618AC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4" name="Picture 14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2514600" y="13716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CAF5-912E-44A9-9928-CAED572279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409720" y="4572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5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1066680"/>
            <a:ext cx="46479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E9C4-53E6-475E-B230-DA842942EF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7631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qualité du résultat d’analyse dépend de la qualité de l’échantillon reç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j0177963"/>
          <p:cNvPicPr/>
          <p:nvPr/>
        </p:nvPicPr>
        <p:blipFill>
          <a:blip r:embed="rId1"/>
          <a:stretch/>
        </p:blipFill>
        <p:spPr>
          <a:xfrm>
            <a:off x="4800600" y="27432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j0400583"/>
          <p:cNvPicPr/>
          <p:nvPr/>
        </p:nvPicPr>
        <p:blipFill>
          <a:blip r:embed="rId2"/>
          <a:stretch/>
        </p:blipFill>
        <p:spPr>
          <a:xfrm>
            <a:off x="1447920" y="23623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2FF0-5E65-4A07-8AF1-C9038F38A7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28600" y="533520"/>
            <a:ext cx="8915040" cy="5866920"/>
            <a:chOff x="228600" y="533520"/>
            <a:chExt cx="8915040" cy="5866920"/>
          </a:xfrm>
        </p:grpSpPr>
        <p:sp>
          <p:nvSpPr>
            <p:cNvPr id="155" name="AutoShape 4"/>
            <p:cNvSpPr/>
            <p:nvPr/>
          </p:nvSpPr>
          <p:spPr>
            <a:xfrm>
              <a:off x="228600" y="533520"/>
              <a:ext cx="8915040" cy="58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9" descr="elderly_patient_doc"/>
            <p:cNvPicPr/>
            <p:nvPr/>
          </p:nvPicPr>
          <p:blipFill>
            <a:blip r:embed="rId1"/>
            <a:stretch/>
          </p:blipFill>
          <p:spPr>
            <a:xfrm>
              <a:off x="6094800" y="4114080"/>
              <a:ext cx="1852560" cy="22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blood_collection"/>
            <p:cNvPicPr/>
            <p:nvPr/>
          </p:nvPicPr>
          <p:blipFill>
            <a:blip r:embed="rId2"/>
            <a:stretch/>
          </p:blipFill>
          <p:spPr>
            <a:xfrm>
              <a:off x="988920" y="1219320"/>
              <a:ext cx="2394720" cy="16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_s112681"/>
            <p:cNvSpPr/>
            <p:nvPr/>
          </p:nvSpPr>
          <p:spPr>
            <a:xfrm flipH="1">
              <a:off x="253152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653"/>
            <p:cNvSpPr/>
            <p:nvPr/>
          </p:nvSpPr>
          <p:spPr>
            <a:xfrm>
              <a:off x="383760" y="2764080"/>
              <a:ext cx="215064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’efficacité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u laborato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680"/>
            <p:cNvSpPr/>
            <p:nvPr/>
          </p:nvSpPr>
          <p:spPr>
            <a:xfrm>
              <a:off x="468612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12651"/>
            <p:cNvSpPr/>
            <p:nvPr/>
          </p:nvSpPr>
          <p:spPr>
            <a:xfrm>
              <a:off x="3611520" y="4879440"/>
              <a:ext cx="215136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ffec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irectement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soi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u pat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12679"/>
            <p:cNvSpPr/>
            <p:nvPr/>
          </p:nvSpPr>
          <p:spPr>
            <a:xfrm>
              <a:off x="576036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12649"/>
            <p:cNvSpPr/>
            <p:nvPr/>
          </p:nvSpPr>
          <p:spPr>
            <a:xfrm>
              <a:off x="6840360" y="2764080"/>
              <a:ext cx="215136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décis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hérapeu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12678"/>
            <p:cNvSpPr/>
            <p:nvPr/>
          </p:nvSpPr>
          <p:spPr>
            <a:xfrm flipV="1">
              <a:off x="4686120" y="205632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12647"/>
            <p:cNvSpPr/>
            <p:nvPr/>
          </p:nvSpPr>
          <p:spPr>
            <a:xfrm>
              <a:off x="3611520" y="648720"/>
              <a:ext cx="215136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Essentiel pour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un diagnostic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ex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12646"/>
            <p:cNvSpPr/>
            <p:nvPr/>
          </p:nvSpPr>
          <p:spPr>
            <a:xfrm>
              <a:off x="3611520" y="2764080"/>
              <a:ext cx="215136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352680" y="274320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d911"/>
                </a:solidFill>
                <a:latin typeface="Verdana"/>
              </a:rPr>
              <a:t>Une bonne gestion de l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8329-E281-43A6-9C0D-574ADFBB1E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7" descr="j0404235"/>
          <p:cNvPicPr/>
          <p:nvPr/>
        </p:nvPicPr>
        <p:blipFill>
          <a:blip r:embed="rId1"/>
          <a:stretch/>
        </p:blipFill>
        <p:spPr>
          <a:xfrm>
            <a:off x="5562720" y="5486400"/>
            <a:ext cx="1044360" cy="1141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4" descr="5-sample_containers"/>
          <p:cNvPicPr/>
          <p:nvPr/>
        </p:nvPicPr>
        <p:blipFill>
          <a:blip r:embed="rId2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5" descr="6216_thumb"/>
          <p:cNvPicPr/>
          <p:nvPr/>
        </p:nvPicPr>
        <p:blipFill>
          <a:blip r:embed="rId3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posant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6" descr="5_req_form"/>
          <p:cNvPicPr/>
          <p:nvPr/>
        </p:nvPicPr>
        <p:blipFill>
          <a:blip r:embed="rId4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066680" y="762120"/>
            <a:ext cx="7626600" cy="5663880"/>
            <a:chOff x="1066680" y="762120"/>
            <a:chExt cx="7626600" cy="5663880"/>
          </a:xfrm>
        </p:grpSpPr>
        <p:sp>
          <p:nvSpPr>
            <p:cNvPr id="178" name="AutoShape 7"/>
            <p:cNvSpPr/>
            <p:nvPr/>
          </p:nvSpPr>
          <p:spPr>
            <a:xfrm>
              <a:off x="1066680" y="762120"/>
              <a:ext cx="7619760" cy="56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48" descr="universal biohazard symbol"/>
            <p:cNvPicPr/>
            <p:nvPr/>
          </p:nvPicPr>
          <p:blipFill>
            <a:blip r:embed="rId5"/>
            <a:srcRect l="6982" t="0" r="0" b="0"/>
            <a:stretch/>
          </p:blipFill>
          <p:spPr>
            <a:xfrm rot="21392400">
              <a:off x="7696800" y="2743560"/>
              <a:ext cx="96804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_s9256"/>
            <p:cNvSpPr/>
            <p:nvPr/>
          </p:nvSpPr>
          <p:spPr>
            <a:xfrm flipH="1" flipV="1">
              <a:off x="3309840" y="29228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55"/>
            <p:cNvSpPr/>
            <p:nvPr/>
          </p:nvSpPr>
          <p:spPr>
            <a:xfrm>
              <a:off x="1622160" y="19191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200"/>
              </a:b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Information </a:t>
              </a:r>
              <a:br>
                <a:rPr sz="2200"/>
              </a:b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nécessaire</a:t>
              </a: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54"/>
            <p:cNvSpPr/>
            <p:nvPr/>
          </p:nvSpPr>
          <p:spPr>
            <a:xfrm flipH="1">
              <a:off x="330984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36"/>
            <p:cNvSpPr/>
            <p:nvPr/>
          </p:nvSpPr>
          <p:spPr>
            <a:xfrm>
              <a:off x="162216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7d"/>
                  </a:solidFill>
                  <a:latin typeface="Verdan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53"/>
            <p:cNvSpPr/>
            <p:nvPr/>
          </p:nvSpPr>
          <p:spPr>
            <a:xfrm>
              <a:off x="4876560" y="4262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34"/>
            <p:cNvSpPr/>
            <p:nvPr/>
          </p:nvSpPr>
          <p:spPr>
            <a:xfrm>
              <a:off x="3971520" y="49323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Conserv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stocka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l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52"/>
            <p:cNvSpPr/>
            <p:nvPr/>
          </p:nvSpPr>
          <p:spPr>
            <a:xfrm>
              <a:off x="565956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32"/>
            <p:cNvSpPr/>
            <p:nvPr/>
          </p:nvSpPr>
          <p:spPr>
            <a:xfrm>
              <a:off x="632124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valu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trait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tra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51"/>
            <p:cNvSpPr/>
            <p:nvPr/>
          </p:nvSpPr>
          <p:spPr>
            <a:xfrm flipV="1">
              <a:off x="5659560" y="29253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29"/>
            <p:cNvSpPr/>
            <p:nvPr/>
          </p:nvSpPr>
          <p:spPr>
            <a:xfrm>
              <a:off x="6321240" y="19213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7d"/>
                  </a:solidFill>
                  <a:latin typeface="Verdana"/>
                </a:rPr>
                <a:t>Étique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9250"/>
            <p:cNvSpPr/>
            <p:nvPr/>
          </p:nvSpPr>
          <p:spPr>
            <a:xfrm flipV="1">
              <a:off x="4876560" y="2255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9226"/>
            <p:cNvSpPr/>
            <p:nvPr/>
          </p:nvSpPr>
          <p:spPr>
            <a:xfrm>
              <a:off x="3971520" y="916560"/>
              <a:ext cx="1809360" cy="1339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lèvement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ser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9225"/>
            <p:cNvSpPr/>
            <p:nvPr/>
          </p:nvSpPr>
          <p:spPr>
            <a:xfrm>
              <a:off x="3971520" y="29257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53" descr="autoclave_cdc"/>
            <p:cNvPicPr/>
            <p:nvPr/>
          </p:nvPicPr>
          <p:blipFill>
            <a:blip r:embed="rId6"/>
            <a:srcRect l="46291" t="0" r="0" b="0"/>
            <a:stretch/>
          </p:blipFill>
          <p:spPr>
            <a:xfrm>
              <a:off x="3429360" y="5563080"/>
              <a:ext cx="658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2" descr="bd09830_"/>
            <p:cNvPicPr/>
            <p:nvPr/>
          </p:nvPicPr>
          <p:blipFill>
            <a:blip r:embed="rId7"/>
            <a:stretch/>
          </p:blipFill>
          <p:spPr>
            <a:xfrm>
              <a:off x="1066680" y="4953600"/>
              <a:ext cx="9658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1" descr=""/>
            <p:cNvPicPr/>
            <p:nvPr/>
          </p:nvPicPr>
          <p:blipFill>
            <a:blip r:embed="rId8"/>
            <a:srcRect l="0" t="0" r="21428" b="0"/>
            <a:stretch/>
          </p:blipFill>
          <p:spPr>
            <a:xfrm>
              <a:off x="7620120" y="4953600"/>
              <a:ext cx="1065960" cy="9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9" descr=""/>
            <p:cNvPicPr/>
            <p:nvPr/>
          </p:nvPicPr>
          <p:blipFill>
            <a:blip r:embed="rId9"/>
            <a:srcRect l="0" t="0" r="27150" b="0"/>
            <a:stretch/>
          </p:blipFill>
          <p:spPr>
            <a:xfrm>
              <a:off x="7239240" y="3352320"/>
              <a:ext cx="83844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3" descr=""/>
            <p:cNvPicPr/>
            <p:nvPr/>
          </p:nvPicPr>
          <p:blipFill>
            <a:blip r:embed="rId10"/>
            <a:srcRect l="0" t="0" r="0" b="21661"/>
            <a:stretch/>
          </p:blipFill>
          <p:spPr>
            <a:xfrm>
              <a:off x="1066680" y="3581280"/>
              <a:ext cx="10713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7" descr=""/>
            <p:cNvPicPr/>
            <p:nvPr/>
          </p:nvPicPr>
          <p:blipFill>
            <a:blip r:embed="rId11"/>
            <a:srcRect l="0" t="0" r="12122" b="0"/>
            <a:stretch/>
          </p:blipFill>
          <p:spPr>
            <a:xfrm>
              <a:off x="2817720" y="1294200"/>
              <a:ext cx="129384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"/>
            <p:cNvPicPr/>
            <p:nvPr/>
          </p:nvPicPr>
          <p:blipFill>
            <a:blip r:embed="rId12"/>
            <a:stretch/>
          </p:blipFill>
          <p:spPr>
            <a:xfrm>
              <a:off x="5561640" y="4495680"/>
              <a:ext cx="114264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52" descr="autoclave_cdc"/>
            <p:cNvPicPr/>
            <p:nvPr/>
          </p:nvPicPr>
          <p:blipFill>
            <a:blip r:embed="rId13"/>
            <a:srcRect l="46291" t="0" r="0" b="0"/>
            <a:stretch/>
          </p:blipFill>
          <p:spPr>
            <a:xfrm>
              <a:off x="4275720" y="2831400"/>
              <a:ext cx="1200960" cy="152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41"/>
          <p:cNvSpPr/>
          <p:nvPr/>
        </p:nvSpPr>
        <p:spPr>
          <a:xfrm>
            <a:off x="3657600" y="2666880"/>
            <a:ext cx="2286000" cy="2410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Manuel de prélèvement du laboratoire</a:t>
            </a:r>
            <a:br>
              <a:rPr sz="2400"/>
            </a:br>
            <a:r>
              <a:rPr b="0" lang="fr-FR" sz="2400" spc="-1" strike="noStrike">
                <a:solidFill>
                  <a:srgbClr val="ffd911"/>
                </a:solidFill>
                <a:latin typeface="Verdana"/>
              </a:rPr>
              <a:t>Lignes de conduite &amp; Pr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4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8" descr="j0205510"/>
          <p:cNvPicPr/>
          <p:nvPr/>
        </p:nvPicPr>
        <p:blipFill>
          <a:blip r:embed="rId15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D086-C4AE-42B7-A5DE-99C8D6FC05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manuel de prélèvement du laboratoir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ent les informations nécessaires à ceux qui prélèvent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disponible dans tous les lieux de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être compris par tout le personnel du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référencé dans le manuel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6" descr="j0359051"/>
          <p:cNvPicPr/>
          <p:nvPr/>
        </p:nvPicPr>
        <p:blipFill>
          <a:blip r:embed="rId1"/>
          <a:stretch/>
        </p:blipFill>
        <p:spPr>
          <a:xfrm>
            <a:off x="6553080" y="4208400"/>
            <a:ext cx="24242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5720-EBDE-40B9-A301-DC7EA3007E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enus du manuel de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adresse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et numéro de téléph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oraires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ste des analyses qui peuvent être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prélèvement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transpor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lai de rendu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ent les demandes urgentes sont trait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8:14:03Z</dcterms:created>
  <dc:creator>sam5</dc:creator>
  <dc:description/>
  <dc:language>en-US</dc:language>
  <cp:lastModifiedBy>dolmazonv</cp:lastModifiedBy>
  <dcterms:modified xsi:type="dcterms:W3CDTF">2010-04-07T16:38:36Z</dcterms:modified>
  <cp:revision>191</cp:revision>
  <dc:subject/>
  <dc:title>Slide 1</dc:title>
</cp:coreProperties>
</file>